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ED8A-C472-4085-B429-096D5E28D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6D69-78D7-4BB2-BDC8-C41B628C8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biopic/yelcac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920-BE82-40BA-B70D-05609FC5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mbined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orm 4-carb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nzyme PEP carboxylase)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xaloace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transported in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ndle-shea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carboxylated forming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ters the Calvi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CB4C-6E32-4A6D-BC22-8A54EE1B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any.hawaii.edu/faculty/webb/bot311/bot311-00/psyn/PsynDark2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F865-F619-4874-870A-8396E7C5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869-91CF-4D20-8A1C-6A85C857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yperphysics.phy-astr.gsu.edu/hbase/biology/calvi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ssulacean acid metabolism (CA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irst discovered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assulac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mily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ta are closed during the day, so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only absorb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at night,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way (Calvin cycle)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93C-8788-455A-9009-6B1E5377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DB3-F4F1-4FED-AE2C-C8285BE04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09F-74A6-440A-B104-C3ED5B896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54E-244A-45D0-8DE4-83E3A9B4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afety4sea.com/page/14377/3/progress-in-fuel-creation-from-carbon-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955-F72C-4789-8462-76D1F48D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assel.unl.edu/pages/informationmodule.php?idinformationmodule=1092853841&amp;topicorder=5&amp;maxto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377-FDD9-47DC-B484-69221A70D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cbi.nlm.nih.gov/books/NBK22344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515D-762E-431C-BB0F-A1C316A7F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91C-2D35-4857-8C6D-65098250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m.wikipedia.org/wiki/File:Simplified_photorespiration_diagra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712B-78B2-46B1-B804-A4A22884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E785-2077-4A3B-80CF-AC6E1F7D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E5C-5458-4A2E-8D25-37D7EBF1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52A-4393-4B1F-8A7C-B3D184A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522-6749-4EAA-A670-4D6F4A95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5E0-3E02-4731-A671-8F27634B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8A5-077D-49F2-9C89-AC900E7F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FE9-7191-4856-94FE-4A38A0E6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D4E-5460-4B24-A18C-B636BE36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46E-A04C-4CD4-BFFF-5AB6F82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0E8-D1B0-40C9-8AF1-1FFB7C04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F63-8B46-406A-BC84-7D3DF646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D88-68C6-45CC-B0A6-AE84668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224-EED1-458B-B016-E609014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E6B-3B6E-470B-A6AF-99B670E2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ternative Mechanisms of Carbon Fi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lc4"/>
          <p:cNvPicPr/>
          <p:nvPr/>
        </p:nvPicPr>
        <p:blipFill>
          <a:blip r:embed="rId1"/>
          <a:stretch/>
        </p:blipFill>
        <p:spPr>
          <a:xfrm>
            <a:off x="2685960" y="1981080"/>
            <a:ext cx="377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62"/>
          <p:cNvPicPr/>
          <p:nvPr/>
        </p:nvPicPr>
        <p:blipFill>
          <a:blip r:embed="rId1"/>
          <a:stretch/>
        </p:blipFill>
        <p:spPr>
          <a:xfrm>
            <a:off x="1249200" y="1981080"/>
            <a:ext cx="664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orghum"/>
          <p:cNvPicPr/>
          <p:nvPr/>
        </p:nvPicPr>
        <p:blipFill>
          <a:blip r:embed="rId1"/>
          <a:stretch/>
        </p:blipFill>
        <p:spPr>
          <a:xfrm>
            <a:off x="1252440" y="1981080"/>
            <a:ext cx="267516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orn ears"/>
          <p:cNvPicPr/>
          <p:nvPr/>
        </p:nvPicPr>
        <p:blipFill>
          <a:blip r:embed="rId2"/>
          <a:stretch/>
        </p:blipFill>
        <p:spPr>
          <a:xfrm>
            <a:off x="5313240" y="4114800"/>
            <a:ext cx="247968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ugar Cane Field 1"/>
          <p:cNvPicPr/>
          <p:nvPr/>
        </p:nvPicPr>
        <p:blipFill>
          <a:blip r:embed="rId3"/>
          <a:stretch/>
        </p:blipFill>
        <p:spPr>
          <a:xfrm>
            <a:off x="4800600" y="1981080"/>
            <a:ext cx="209232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PEARL-mILLET"/>
          <p:cNvPicPr/>
          <p:nvPr/>
        </p:nvPicPr>
        <p:blipFill>
          <a:blip r:embed="rId4"/>
          <a:stretch/>
        </p:blipFill>
        <p:spPr>
          <a:xfrm>
            <a:off x="17780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alcam"/>
          <p:cNvPicPr/>
          <p:nvPr/>
        </p:nvPicPr>
        <p:blipFill>
          <a:blip r:embed="rId1"/>
          <a:stretch/>
        </p:blipFill>
        <p:spPr>
          <a:xfrm>
            <a:off x="1808280" y="1981080"/>
            <a:ext cx="552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jade_plant01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rickly-pear-cactus-1"/>
          <p:cNvPicPr/>
          <p:nvPr/>
        </p:nvPicPr>
        <p:blipFill>
          <a:blip r:embed="rId2"/>
          <a:stretch/>
        </p:blipFill>
        <p:spPr>
          <a:xfrm>
            <a:off x="5557680" y="4114800"/>
            <a:ext cx="1986120" cy="198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neapple"/>
          <p:cNvPicPr/>
          <p:nvPr/>
        </p:nvPicPr>
        <p:blipFill>
          <a:blip r:embed="rId3"/>
          <a:stretch/>
        </p:blipFill>
        <p:spPr>
          <a:xfrm>
            <a:off x="1846440" y="4114800"/>
            <a:ext cx="148896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ram's_head_orchid_plant"/>
          <p:cNvPicPr/>
          <p:nvPr/>
        </p:nvPicPr>
        <p:blipFill>
          <a:blip r:embed="rId4"/>
          <a:stretch/>
        </p:blipFill>
        <p:spPr>
          <a:xfrm>
            <a:off x="5989680" y="1981080"/>
            <a:ext cx="1127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 pl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ic.edu/classes/bios/bios100/lectures/c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elf-quiz multiple choice quizzes from McGraw-Hill Ryer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0271348/student_view0/chapter6/chapter_quiz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highered.mcgraw-hill.com/sites/0073403474/student_view0/chapter5/pre-tes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lants ne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4% of atmosphere i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is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arbon_emmission_co2_smoke"/>
          <p:cNvPicPr/>
          <p:nvPr/>
        </p:nvPicPr>
        <p:blipFill>
          <a:blip r:embed="rId1"/>
          <a:stretch/>
        </p:blipFill>
        <p:spPr>
          <a:xfrm>
            <a:off x="4343400" y="2505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lants need to limit water loss &amp; adapt to wat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K+_opne&amp;closed-LG"/>
          <p:cNvPicPr/>
          <p:nvPr/>
        </p:nvPicPr>
        <p:blipFill>
          <a:blip r:embed="rId1"/>
          <a:stretch/>
        </p:blipFill>
        <p:spPr>
          <a:xfrm>
            <a:off x="5370480" y="1676520"/>
            <a:ext cx="2517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ulose-1,5-bisphosph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xylase oxid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isCO catalyzes the first reaction of the Calvi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catalyze reaction between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u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h20f3"/>
          <p:cNvPicPr/>
          <p:nvPr/>
        </p:nvPicPr>
        <p:blipFill>
          <a:blip r:embed="rId1"/>
          <a:stretch/>
        </p:blipFill>
        <p:spPr>
          <a:xfrm>
            <a:off x="4719600" y="2209680"/>
            <a:ext cx="366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ecule of 3-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duces a molecule that is not useful to the cell that must be removed in a series of reactions, which use ATP release 1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Simplified_photorespiration_diagram"/>
          <p:cNvPicPr/>
          <p:nvPr/>
        </p:nvPicPr>
        <p:blipFill>
          <a:blip r:embed="rId1"/>
          <a:stretch/>
        </p:blipFill>
        <p:spPr>
          <a:xfrm>
            <a:off x="152280" y="88740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isCO has a higher affinity for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inds to it 75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t &amp; dry cl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close &amp; relati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decreases due to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a pl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3:23:18Z</dcterms:created>
  <dc:creator>rubina khan</dc:creator>
  <dc:description/>
  <dc:language>en-US</dc:language>
  <cp:lastModifiedBy>rubina khan</cp:lastModifiedBy>
  <dcterms:modified xsi:type="dcterms:W3CDTF">2015-10-27T01:15:34Z</dcterms:modified>
  <cp:revision>127</cp:revision>
  <dc:subject/>
  <dc:title>Photosynthesis</dc:title>
</cp:coreProperties>
</file>